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1CB-C30D-436A-93A1-3983A16F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41B-B057-41D0-B6D7-397DF54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C72-B448-4E59-8839-C19F6DB7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14E-1BFA-467B-8C3D-6B9E3ED7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425-4BBD-4C82-ACB8-5F07F61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985-524D-47EC-A37E-3170656B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1CA-7D44-4853-B6AE-1A4E625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232-AB2C-40F6-BEAA-C84130D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18B-A21F-4C67-8561-74FAE14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824-8024-4A96-9E33-A3B754A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584-A19C-4E4C-83DA-7896A868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9FD-97A8-4EF0-BB41-75315F2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34D-6C57-440D-B74F-24B887476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11280" y="1611360"/>
            <a:ext cx="735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pare   v.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[prɪ’peə(r)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de      n.   [praɪ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ud    adj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1280" y="75708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Many people ____ ______ _____ fun dances and colorful culture in Brazil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urkey is in both America and Europe.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What other things you can see and do in Egy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What is the population of China? And what about recent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More students come to the front to talk about their countries with p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标题 3"/>
          <p:cNvSpPr/>
          <p:nvPr/>
        </p:nvSpPr>
        <p:spPr>
          <a:xfrm>
            <a:off x="826920" y="44280"/>
            <a:ext cx="7632720" cy="7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ad and and do the following tasks</a:t>
            </a:r>
            <a:r>
              <a:rPr b="1" i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861-A4C2-4840-92F8-29E3396F2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21080" y="658800"/>
            <a:ext cx="7555680" cy="7153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d and and do the following tasks</a:t>
            </a:r>
            <a:r>
              <a:rPr b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1280" y="190656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Many people ____ ______ _____ fun dances and colorful culture in Braz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urkey is in both America and Europe.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What other things you can see and do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43280" y="184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 known 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64360" y="357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24000" y="486900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can relax on a boat tour of the Nile. You can ride a camel in the Sahara Desert or walk in the Cai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611280" y="29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 known  for: are famou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EBF-AA98-44B0-8446-565A945E6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0"/>
          <p:cNvSpPr/>
          <p:nvPr/>
        </p:nvSpPr>
        <p:spPr>
          <a:xfrm>
            <a:off x="0" y="1197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What is the population of China? And what about recent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More students come to the front to talk about their countries with p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79280" y="2187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has the largest population in the world. And it has developed  quickly in recent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79280" y="4365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的学生到前面骄傲地谈论他们自己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2627280" y="3789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4"/>
          <p:cNvSpPr/>
          <p:nvPr/>
        </p:nvSpPr>
        <p:spPr>
          <a:xfrm>
            <a:off x="4282920" y="3139920"/>
            <a:ext cx="2449800" cy="1800"/>
          </a:xfrm>
          <a:prstGeom prst="line">
            <a:avLst/>
          </a:prstGeom>
          <a:ln w="25560">
            <a:solidFill>
              <a:srgbClr val="0020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8"/>
          <p:cNvSpPr/>
          <p:nvPr/>
        </p:nvSpPr>
        <p:spPr>
          <a:xfrm>
            <a:off x="3132000" y="4869000"/>
            <a:ext cx="1079640" cy="1440"/>
          </a:xfrm>
          <a:prstGeom prst="line">
            <a:avLst/>
          </a:prstGeom>
          <a:ln w="25560">
            <a:solidFill>
              <a:srgbClr val="0020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792F-D1BA-408B-8642-EF47DBC32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908000" y="36259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0" y="4005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1280" y="44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282920" y="436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55640" y="48387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n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95640" y="558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694836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1476360" y="63961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2B1C-8112-4DC7-A937-926B84821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042920" y="24019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u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843280" y="306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70036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403280" y="494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6012000" y="4983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700360" y="6218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211-6522-49D5-9F32-44BD9B8370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9" descr="7656323_091222899000_2.jpg"/>
          <p:cNvPicPr/>
          <p:nvPr/>
        </p:nvPicPr>
        <p:blipFill>
          <a:blip r:embed="rId1"/>
          <a:srcRect l="33334" t="0" r="0" b="5966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395280" y="2852640"/>
            <a:ext cx="3960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Task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Make a report to Introduce one country you lik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643280" y="2852640"/>
            <a:ext cx="442764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Task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Make a dialogue about one country you lik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5FB-91CE-402A-A79A-7CDB7FC2E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09080" y="1090440"/>
            <a:ext cx="7423560" cy="702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</a:rPr>
              <a:t>Homework</a:t>
            </a:r>
            <a:r>
              <a:rPr b="1" lang="en-US" sz="2800" spc="-1" strike="noStrike">
                <a:solidFill>
                  <a:srgbClr val="5724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20464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9000"/>
          </a:bodyPr>
          <a:p>
            <a:pPr marL="397440" indent="-3974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Introduce one country you want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go in the fut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big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famou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CCD4-5FB1-4E40-BDFA-910599D35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3" descr="C:\Users\BSFX\Desktop\u=2775759695,2312524416&amp;fm=23&amp;gp=0.jpg"/>
            <p:cNvPicPr/>
            <p:nvPr/>
          </p:nvPicPr>
          <p:blipFill>
            <a:blip r:embed="rId1"/>
            <a:srcRect l="0" t="5782" r="3076" b="757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矩形 5"/>
            <p:cNvSpPr/>
            <p:nvPr/>
          </p:nvSpPr>
          <p:spPr>
            <a:xfrm>
              <a:off x="5076000" y="6105600"/>
              <a:ext cx="3996000" cy="70344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mazon Ri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6256-A836-4E9E-BBF3-415F60610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BSFX\Desktop\u=1162760338,2231062946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79280" y="59500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ain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A67-73A1-4B12-9780-DEC06FC24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BSFX\Desktop\u=3227578360,413476863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08000" y="442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3155-2520-453D-9E13-714889D4D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BSFX\Desktop\u=2765961473,3023462435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32B-0F1A-40C5-86C1-26ACB6812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0"/>
          <p:cNvGrpSpPr/>
          <p:nvPr/>
        </p:nvGrpSpPr>
        <p:grpSpPr>
          <a:xfrm>
            <a:off x="4211640" y="0"/>
            <a:ext cx="4681440" cy="2205000"/>
            <a:chOff x="4211640" y="0"/>
            <a:chExt cx="4681440" cy="2205000"/>
          </a:xfrm>
        </p:grpSpPr>
        <p:pic>
          <p:nvPicPr>
            <p:cNvPr id="60" name="Picture 3" descr="C:\Users\BSFX\Desktop\u=179437940,3285865623&amp;fm=23&amp;gp=0.jpg"/>
            <p:cNvPicPr/>
            <p:nvPr/>
          </p:nvPicPr>
          <p:blipFill>
            <a:blip r:embed="rId1"/>
            <a:srcRect l="0" t="11099" r="0" b="6135"/>
            <a:stretch/>
          </p:blipFill>
          <p:spPr>
            <a:xfrm>
              <a:off x="4211640" y="0"/>
              <a:ext cx="468144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6"/>
            <p:cNvSpPr/>
            <p:nvPr/>
          </p:nvSpPr>
          <p:spPr>
            <a:xfrm>
              <a:off x="4211640" y="1620360"/>
              <a:ext cx="288108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Niagara Fa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1"/>
          <p:cNvGrpSpPr/>
          <p:nvPr/>
        </p:nvGrpSpPr>
        <p:grpSpPr>
          <a:xfrm>
            <a:off x="179280" y="2232000"/>
            <a:ext cx="4321440" cy="2276640"/>
            <a:chOff x="179280" y="2232000"/>
            <a:chExt cx="4321440" cy="2276640"/>
          </a:xfrm>
        </p:grpSpPr>
        <p:pic>
          <p:nvPicPr>
            <p:cNvPr id="63" name="Picture 2" descr="C:\Users\BSFX\Desktop\u=4230364156,920453691&amp;fm=56.jpg"/>
            <p:cNvPicPr/>
            <p:nvPr/>
          </p:nvPicPr>
          <p:blipFill>
            <a:blip r:embed="rId2"/>
            <a:stretch/>
          </p:blipFill>
          <p:spPr>
            <a:xfrm>
              <a:off x="179280" y="2232000"/>
              <a:ext cx="432144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矩形 7"/>
            <p:cNvSpPr/>
            <p:nvPr/>
          </p:nvSpPr>
          <p:spPr>
            <a:xfrm>
              <a:off x="2700000" y="3924000"/>
              <a:ext cx="180072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yram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2"/>
          <p:cNvGrpSpPr/>
          <p:nvPr/>
        </p:nvGrpSpPr>
        <p:grpSpPr>
          <a:xfrm>
            <a:off x="3851280" y="4530600"/>
            <a:ext cx="4968720" cy="2215800"/>
            <a:chOff x="3851280" y="4530600"/>
            <a:chExt cx="4968720" cy="2215800"/>
          </a:xfrm>
        </p:grpSpPr>
        <p:pic>
          <p:nvPicPr>
            <p:cNvPr id="66" name="Picture 4" descr="C:\Users\BSFX\Desktop\u=2794099826,3814806922&amp;fm=23&amp;gp=0.jpg"/>
            <p:cNvPicPr/>
            <p:nvPr/>
          </p:nvPicPr>
          <p:blipFill>
            <a:blip r:embed="rId3"/>
            <a:stretch/>
          </p:blipFill>
          <p:spPr>
            <a:xfrm>
              <a:off x="3851280" y="4530600"/>
              <a:ext cx="4968720" cy="22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9"/>
            <p:cNvSpPr/>
            <p:nvPr/>
          </p:nvSpPr>
          <p:spPr>
            <a:xfrm>
              <a:off x="6227640" y="6165000"/>
              <a:ext cx="252036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Eiffel Tow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40B-5730-48AB-B42A-2E2327888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9"/>
          <p:cNvGrpSpPr/>
          <p:nvPr/>
        </p:nvGrpSpPr>
        <p:grpSpPr>
          <a:xfrm>
            <a:off x="179280" y="44280"/>
            <a:ext cx="4654800" cy="2238120"/>
            <a:chOff x="179280" y="44280"/>
            <a:chExt cx="4654800" cy="2238120"/>
          </a:xfrm>
        </p:grpSpPr>
        <p:pic>
          <p:nvPicPr>
            <p:cNvPr id="70" name="Picture 2" descr="C:\Users\BSFX\Desktop\u=1856311095,4205582409&amp;fm=90&amp;gp=0.jpg"/>
            <p:cNvPicPr/>
            <p:nvPr/>
          </p:nvPicPr>
          <p:blipFill>
            <a:blip r:embed="rId1"/>
            <a:stretch/>
          </p:blipFill>
          <p:spPr>
            <a:xfrm>
              <a:off x="179280" y="44280"/>
              <a:ext cx="465480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矩形 6"/>
            <p:cNvSpPr/>
            <p:nvPr/>
          </p:nvSpPr>
          <p:spPr>
            <a:xfrm>
              <a:off x="179280" y="1701000"/>
              <a:ext cx="403272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osphorous Brid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0"/>
          <p:cNvGrpSpPr/>
          <p:nvPr/>
        </p:nvGrpSpPr>
        <p:grpSpPr>
          <a:xfrm>
            <a:off x="3995640" y="2349360"/>
            <a:ext cx="4897440" cy="2232000"/>
            <a:chOff x="3995640" y="2349360"/>
            <a:chExt cx="4897440" cy="2232000"/>
          </a:xfrm>
        </p:grpSpPr>
        <p:pic>
          <p:nvPicPr>
            <p:cNvPr id="73" name="Picture 6" descr="C:\Users\BSFX\Desktop\u=2199029087,3131312925&amp;fm=23&amp;gp=0.jpg"/>
            <p:cNvPicPr/>
            <p:nvPr/>
          </p:nvPicPr>
          <p:blipFill>
            <a:blip r:embed="rId2"/>
            <a:stretch/>
          </p:blipFill>
          <p:spPr>
            <a:xfrm>
              <a:off x="3995640" y="2349360"/>
              <a:ext cx="4897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矩形 7"/>
            <p:cNvSpPr/>
            <p:nvPr/>
          </p:nvSpPr>
          <p:spPr>
            <a:xfrm>
              <a:off x="3995640" y="3996720"/>
              <a:ext cx="180036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erl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1"/>
          <p:cNvGrpSpPr/>
          <p:nvPr/>
        </p:nvGrpSpPr>
        <p:grpSpPr>
          <a:xfrm>
            <a:off x="71280" y="4697280"/>
            <a:ext cx="4861080" cy="2160720"/>
            <a:chOff x="71280" y="4697280"/>
            <a:chExt cx="4861080" cy="2160720"/>
          </a:xfrm>
        </p:grpSpPr>
        <p:pic>
          <p:nvPicPr>
            <p:cNvPr id="76" name="Picture 3" descr="C:\Users\BSFX\Desktop\u=2775759695,2312524416&amp;fm=23&amp;gp=0.jpg"/>
            <p:cNvPicPr/>
            <p:nvPr/>
          </p:nvPicPr>
          <p:blipFill>
            <a:blip r:embed="rId3"/>
            <a:srcRect l="0" t="5782" r="3076" b="7571"/>
            <a:stretch/>
          </p:blipFill>
          <p:spPr>
            <a:xfrm>
              <a:off x="71280" y="4697280"/>
              <a:ext cx="4861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8"/>
            <p:cNvSpPr/>
            <p:nvPr/>
          </p:nvSpPr>
          <p:spPr>
            <a:xfrm>
              <a:off x="1907280" y="6273000"/>
              <a:ext cx="3025080" cy="581400"/>
            </a:xfrm>
            <a:prstGeom prst="rect">
              <a:avLst/>
            </a:prstGeom>
            <a:solidFill>
              <a:srgbClr val="ffff99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mazon Ri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AD6-B57F-49B0-8BD1-3090D4207D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050920" y="2565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sson 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class of the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266920" y="5734080"/>
            <a:ext cx="658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5171"/>
          <p:cNvSpPr/>
          <p:nvPr/>
        </p:nvSpPr>
        <p:spPr>
          <a:xfrm>
            <a:off x="2421000" y="909720"/>
            <a:ext cx="32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223-F70D-42B7-B4A2-BD5D115021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6588000" y="2781360"/>
            <a:ext cx="360360" cy="39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5244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3276720" y="5157720"/>
            <a:ext cx="352440" cy="30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3348000" y="6308640"/>
            <a:ext cx="338040" cy="297000"/>
          </a:xfrm>
          <a:prstGeom prst="rect">
            <a:avLst/>
          </a:prstGeom>
          <a:ln w="0">
            <a:noFill/>
          </a:ln>
        </p:spPr>
      </p:pic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A707-34A5-47CF-B5E4-D34B505A7E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50:08Z</dcterms:created>
  <dc:creator> </dc:creator>
  <dc:description> </dc:description>
  <dc:language>en-US</dc:language>
  <cp:lastModifiedBy>Administrator</cp:lastModifiedBy>
  <dcterms:modified xsi:type="dcterms:W3CDTF">2019-01-02T02:51:12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